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2C7-8444-4516-90AD-8973C42881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DAE-0824-46B2-9EB8-FFBD191563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1E15-4564-4879-A49C-262FDB4B28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C4BE-1250-4935-895A-F8BB9DAACF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E90-024E-4DE9-B75F-EAD89C1824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715-CD97-468A-ACE9-7E5176C433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032-BE6E-40D4-8B30-4202B96AA8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ED81-3063-490F-9A1E-FAB6B2F327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1702-CFBF-445A-B567-66BB0C50E6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862-05EB-4E2C-B6BA-6898C706C5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816B-EBB0-4492-B071-DAF3DB5F95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C999-1D07-4E83-883C-94830FE10F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4EB-33BD-4073-B0D0-20D2539217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3FF-F29C-4388-9B35-F5A9C14AB9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B37-4502-48AB-AE0C-3616E84F1E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CDD-FC94-4031-998E-9343C7E5D7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D0B-D611-44FF-8A59-C7C0D5A296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0F2-3EDA-4DBD-956A-F9966169A1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3CA-4685-400E-BF5C-0044B0A18F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4CC-510D-4DFF-9D78-70B44A2FB3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F8B-C25C-48DE-B66D-A081FCDB0D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381-18BE-4562-8E35-1CEC3FCD11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2FDD-F279-46F1-AAFE-312FBDF203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9B5-9D2C-4FB5-A279-EB08E94AF5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40A-66D1-4AEF-B5AA-873E3614F5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ADF5-8BF1-4F1F-8D27-94D89F32D9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317-6B59-435E-81F0-F94BEA727A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A75B-1BF2-4CD7-9E84-4A39639BB0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CBD1-F191-498F-BDF0-1F0B0799E7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7625-5B42-4836-87FC-F867E162BD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D1C-1D7D-4083-9953-4F6E14997D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69C0-E592-40DF-BE35-29E857479A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06E-9BF3-414A-8D02-CBB2A9B375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697-3506-4230-99B6-12379EB4F1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009C-3C39-4114-8CC5-9B4C1BF766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3068-26FE-48B6-955B-B0D2DC90CD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2834-97DA-4BF8-A55D-20B21AC3C0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512-5D2E-4BBD-B622-0EFDB2D7B9F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1B3-1C52-43C0-B78A-F0844752C8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629-BA17-41A5-B753-09A36C68DE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EA00-B630-44B2-8409-56C1004A15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95FC-51C6-43E5-8996-73E55526EF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A7B9-5DD4-4FAD-A980-71FF5EF9F9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95F-287C-45A0-99A1-6C16785A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56C-4419-4555-955C-B43AC1BD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A42-F26F-48BD-A8E1-B4E9096F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C38-2E81-48DC-840A-B2074551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70-D27D-4BB4-B275-01EF52F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1D2-A634-45CA-A631-23E2B5C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F5F-EB0E-4694-97F0-CE12457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526-5C2C-45F9-8A0E-670400F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FA9-6C74-492A-9A5C-ACF2053F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790-4E03-44BD-8810-9EDE446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4BA-EEE0-4B5E-BD6A-2540932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A49-1D85-4C24-B4CF-5BB4BBC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F3C-03D6-45D1-98D4-DCC7929C3CC5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qǐngwè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말씀 좀 묻겠습니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ú 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다지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글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왼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른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t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하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y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병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40644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东大门市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404280" y="4997160"/>
            <a:ext cx="62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dàmén Shìchǎ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동대문 시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교통수단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fāngbi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ū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필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j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北京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575244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ěijī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828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베이징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十字路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ízìlùkǒu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거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592200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ōnggòngqì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i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비행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항공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ìxíng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전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맞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ēzh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떻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ūchē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택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번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 노선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行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ng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행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z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쪽으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5:15:58Z</dcterms:created>
  <dc:creator>System</dc:creator>
  <dc:description/>
  <dc:language>en-US</dc:language>
  <cp:lastModifiedBy>System</cp:lastModifiedBy>
  <dcterms:modified xsi:type="dcterms:W3CDTF">2014-01-24T06:10:13Z</dcterms:modified>
  <cp:revision>6</cp:revision>
  <dc:subject/>
  <dc:title>슬라이드 1</dc:title>
</cp:coreProperties>
</file>